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395D-412F-4B41-BC4F-11069C702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991C-F313-4ABD-9497-D1242CC97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30FF-98FA-40B1-96FD-7817D6851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633E-2226-47A4-9CC9-61567C7EE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948E-95F3-43A4-A2F8-8EF47F1EB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A631-445E-4FDF-8F64-C97F71155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4381-0BDD-4164-8A96-AB616F670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51B1-4540-4298-B2EF-EE4EF5DC9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F3CE-E4EE-4573-8D0F-F1529CDE8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910A-4F3B-4164-8939-8E5A6192E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927B-8170-41D7-989E-D32C82FD8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EC50-33D0-49E1-821D-1DBE06AA9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72A19-6D23-435F-BF33-6929D438B0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81440" y="601560"/>
            <a:ext cx="186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ro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20" y="0"/>
            <a:ext cx="150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xono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sion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7440" y="1873080"/>
            <a:ext cx="107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 of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45520" y="2062080"/>
            <a:ext cx="10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44000" y="400860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rtb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86040" y="4008600"/>
            <a:ext cx="135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Chu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86440" y="4587840"/>
            <a:ext cx="22096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iggered by a surprise ev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.g. Org change, Technology change, or business ch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3811320" y="1061280"/>
            <a:ext cx="575280" cy="1001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  <a:endCxn id="43" idx="0"/>
          </p:cNvCxnSpPr>
          <p:nvPr/>
        </p:nvCxnSpPr>
        <p:spPr>
          <a:xfrm flipH="1">
            <a:off x="1923840" y="1061280"/>
            <a:ext cx="1887840" cy="81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4" idx="2"/>
            <a:endCxn id="45" idx="0"/>
          </p:cNvCxnSpPr>
          <p:nvPr/>
        </p:nvCxnSpPr>
        <p:spPr>
          <a:xfrm flipH="1">
            <a:off x="1963080" y="2521800"/>
            <a:ext cx="2423520" cy="1487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" name=""/>
          <p:cNvCxnSpPr>
            <a:stCxn id="44" idx="2"/>
            <a:endCxn id="46" idx="0"/>
          </p:cNvCxnSpPr>
          <p:nvPr/>
        </p:nvCxnSpPr>
        <p:spPr>
          <a:xfrm flipH="1">
            <a:off x="4363920" y="2521800"/>
            <a:ext cx="22680" cy="1487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2" name=""/>
          <p:cNvSpPr/>
          <p:nvPr/>
        </p:nvSpPr>
        <p:spPr>
          <a:xfrm>
            <a:off x="3587760" y="4802040"/>
            <a:ext cx="19731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fined by completing a set of deliver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.g. end of phase or milest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00360" y="4522680"/>
            <a:ext cx="2180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fined by 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.g. weekly, Month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662440" y="40086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st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" name=""/>
          <p:cNvCxnSpPr>
            <a:stCxn id="44" idx="2"/>
            <a:endCxn id="54" idx="0"/>
          </p:cNvCxnSpPr>
          <p:nvPr/>
        </p:nvCxnSpPr>
        <p:spPr>
          <a:xfrm>
            <a:off x="4386240" y="2521800"/>
            <a:ext cx="2381400" cy="1487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9T00:00:52Z</dcterms:created>
  <dc:creator>JERRYD</dc:creator>
  <dc:description/>
  <dc:language>en-US</dc:language>
  <cp:lastModifiedBy>JERRYD</cp:lastModifiedBy>
  <dcterms:modified xsi:type="dcterms:W3CDTF">2003-04-29T01:11:02Z</dcterms:modified>
  <cp:revision>4</cp:revision>
  <dc:subject/>
  <dc:title>PowerPoint Presentation</dc:title>
</cp:coreProperties>
</file>